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914-2FD9-407D-B531-EDFD8D88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45B-2B8A-4503-AF24-F3C7D3A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72D-6BA5-44AC-B214-9AF4C587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F1B-64A2-4633-8176-758A662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8CC-B9EA-43D9-AC2E-CB28D88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014-B298-449D-B38F-08790909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D67F-5D97-48A1-AC88-04E8BB16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6A7-0383-42AF-99C4-3BCECC7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E1D-F089-4645-8E75-8FF75AB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AC5-9815-421A-9611-4C381A54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F47-0A74-40E5-9A09-5ABDC88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22E-E519-4FE3-B2B3-CE63A768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3BA0-73E3-414A-8F59-EAC2F74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DAC-1399-44BF-BBF0-B039678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5711-7D22-4460-8368-C06B19ED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8D19-A558-45D9-BE99-7105ADB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F5C3-8929-4280-AD7E-5250ED32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4BBC-5349-4889-BD13-45B66AC0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AED0-749C-4015-A0B0-A2D80F9B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83AF-4FBD-4EB6-9DBA-95EEAC3B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876-9226-45E7-81F1-BFAB8738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351E-C309-473F-9CA4-0E7068C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559E-8EC3-4C46-839F-BE3CA70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0157-7642-4C37-BF6C-5346374D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FE33-3BA9-4527-A3E4-3D08F1BF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C93C-9FAE-4093-BAB4-12392558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0625-74EB-43E4-B238-F93810E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8104-167C-4D55-92A8-7BBECBC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33CF-DC8A-43BB-AE6C-3A918F2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4CEC-23F0-4431-B144-C30E8E56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B5B3-15CF-45F4-B5DB-F3FD91CB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5DA-49AC-4A8A-8F5B-5C64433C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EE56-C698-4577-8C65-2E181E70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D1DF-1B80-4FAE-BF16-A49296A7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AE3E-09DF-4D9F-A3D5-A809BDF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A228-39EB-4580-999E-E7CC573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3C8F-E5CA-447D-8BAA-9EF9A24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4E6A-7A47-4A49-96E7-42295862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0705-DE95-4011-B32F-D335F24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8398-98D9-4F40-885B-59F85CE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399A-F7F7-49EE-90C8-80FFF74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47DD-697F-4D2F-A21E-BF3E8EC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F78-9896-42C0-883F-604874BF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0552-C1FA-4D56-BF2E-C021ABA6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2407-7E31-4E57-89E6-FC43FACE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0F2B-9A32-4F3A-A5B0-49BF14CE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1EC-C231-442F-A621-F18AFD6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89E-F499-4D6C-AEDE-1187B4C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465A7DB-610C-49D7-91C9-96C35D2FF3A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394C924-8549-4A4C-A03B-7F4700A872C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AF3EC8A-2BF3-4481-8D4F-1FCE475605C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88081B0-3FF1-4F1F-89A1-7B0B30E50E1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41360" y="126792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4400" spc="-1" strike="noStrike">
                <a:solidFill>
                  <a:srgbClr val="374c81"/>
                </a:solidFill>
                <a:latin typeface="Century Gothic"/>
              </a:rPr>
              <a:t>Co to za rana?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rcRect l="6606" t="0" r="23427" b="0"/>
          <a:stretch/>
        </p:blipFill>
        <p:spPr>
          <a:xfrm>
            <a:off x="406440" y="2276640"/>
            <a:ext cx="273528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2"/>
          <p:cNvSpPr/>
          <p:nvPr/>
        </p:nvSpPr>
        <p:spPr>
          <a:xfrm>
            <a:off x="155736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1" name="Obraz 1" descr="Plik:Selfinjury.jpg"/>
          <p:cNvPicPr/>
          <p:nvPr/>
        </p:nvPicPr>
        <p:blipFill>
          <a:blip r:embed="rId3"/>
          <a:srcRect l="0" t="0" r="25650" b="0"/>
          <a:stretch/>
        </p:blipFill>
        <p:spPr>
          <a:xfrm>
            <a:off x="3286080" y="2274840"/>
            <a:ext cx="2700360" cy="27288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7"/>
          <p:cNvSpPr/>
          <p:nvPr/>
        </p:nvSpPr>
        <p:spPr>
          <a:xfrm>
            <a:off x="442116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3" name="Obraz 5" descr="http://1.bp.blogspot.com/-dtdwTNol-o4/UC-YqNsLdhI/AAAAAAAAALo/SPz2x9ppqgc/s320/180820121041.jpg"/>
          <p:cNvPicPr/>
          <p:nvPr/>
        </p:nvPicPr>
        <p:blipFill>
          <a:blip r:embed="rId4"/>
          <a:srcRect l="7204" t="0" r="25629" b="0"/>
          <a:stretch/>
        </p:blipFill>
        <p:spPr>
          <a:xfrm>
            <a:off x="6130800" y="2274840"/>
            <a:ext cx="3245040" cy="272880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9"/>
          <p:cNvSpPr/>
          <p:nvPr/>
        </p:nvSpPr>
        <p:spPr>
          <a:xfrm>
            <a:off x="753732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5" name="Obraz 3" descr="http://upload.wikimedia.org/wikipedia/commons/thumb/7/71/Footpuncture.JPG/576px-Footpuncture.JPG"/>
          <p:cNvPicPr/>
          <p:nvPr/>
        </p:nvPicPr>
        <p:blipFill>
          <a:blip r:embed="rId5"/>
          <a:srcRect l="16732" t="0" r="3580" b="29289"/>
          <a:stretch/>
        </p:blipFill>
        <p:spPr>
          <a:xfrm>
            <a:off x="9529920" y="2274840"/>
            <a:ext cx="2325600" cy="273852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11"/>
          <p:cNvSpPr/>
          <p:nvPr/>
        </p:nvSpPr>
        <p:spPr>
          <a:xfrm>
            <a:off x="1047600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846440" y="1773000"/>
            <a:ext cx="9283680" cy="934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31000"/>
          </a:bodyPr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postrzałow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cię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szarpan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kłu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2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